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29D-EF6C-454F-B227-470BD74B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725-9BF2-4AEB-8925-D40F74EF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A1AD9-8A60-456B-92FD-FF6A1869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8A945-F3E5-484E-BE0A-7946EA7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37A37-950A-48C5-BAF3-6C6FAC1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2D24F-764E-4C0B-83F2-3FFFA77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094B1-722D-4F38-9A0D-5E7A968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AD000-97B1-4C39-A471-92B664D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959BF-10D7-4640-B9B1-E23318F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F0775-B87C-42B5-B06F-D8C2CCF5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9AC44-6F45-42FC-895F-96AB4B3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0F074-31F5-4A72-9A54-5032324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C2B-5199-40F2-9EEA-455E4BDD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D8BDA-2B82-4E58-932E-4051349F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758AB-7523-415D-88C3-AF0FCCD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1CF37-B0B9-4A77-9E6D-F0955785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34EE1-BC53-4EAC-B210-AAE15C6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9704A-F548-47A7-B6D9-5D85C94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DF293-D5FA-4CE4-84A4-38D7852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9F9A0-9792-4D90-B47C-719084F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39E1-A200-4064-B101-3023294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EE88D-3168-4DD1-AE49-2C36061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3AC06-41A1-4B6D-B507-41A364AA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B7E-4E07-4523-A580-A9CE83D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AE03D-7F6C-4CAB-B333-09CFC10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77DA1-3A37-45D6-9ACE-93E45B1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3B6C1-6DDD-4E91-A225-434086A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80BB8-ECF8-433E-A87E-ECC1FBE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85A4-ABAC-4644-9031-EDCD11C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F2B33-88B7-404E-B4CC-F6D52748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0FFE-7FFE-48E7-B941-5F9833D1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3760E-B2CE-4AFC-9CD8-1A81DB9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0320-5C96-430D-954F-263DD70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41E79-B783-4864-AB04-9D31595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FA7B-9424-41C4-BE58-D31E58E4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FAC3-F652-4456-B2DC-55E89D1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C9E44-D745-42C6-B148-1BB0DE7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4362D-6B3F-4566-8A32-2603784C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9639-FB09-4063-88B4-891F8B0C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79AB8-D7C2-4CBF-9C4C-2B1982A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B850-5890-4366-8792-3EA029E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49685-049B-43EF-8F21-A34AA51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6E0C7-F2FA-474E-A2EE-2F8EFB7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5C739-797A-40FE-BC9B-30F3C90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29779-085A-48DE-B776-31AFC34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7752-C3C3-4553-B3C6-B70D13DF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37070-4E31-4BE5-95F1-7552BAE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3E35D-411F-4860-8BB1-7EF1494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5197A-68D2-46EE-85ED-F42C072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423D8-81B1-4A9D-90CC-F5EFCF35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9395C-F117-499F-BFA2-2640183F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B0A1-1238-4CE6-A000-64D9A92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F08-A95B-4BF9-A920-318DAE1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DE6-3599-4124-87AB-EA980B4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1A5-30A5-4A5A-BEC8-1F15237A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038C-B5A6-4C48-9554-5846FF4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5A5-E330-4DB7-81C0-F75F525C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108-4DE3-4DEF-88D9-C779D54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BB96-E960-4445-8C02-FC49EE8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7CF6-AD00-49F6-BDC3-D6F8485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4581-96BF-4406-9934-CF794C66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31F5-76AD-487E-9710-20ECA34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6AEC-27DC-4686-8FAA-E7B9CE12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E447-2D32-4B4A-A119-BB0800D6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D259-E192-4A13-B660-0F7CE543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E670-4D97-4166-A600-91A58C1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A4C4-6CD2-4CFE-AD9E-691EA0A5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0B7-0663-4A40-98EA-2FDC9280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D676-3DE6-4E4C-99FD-8FF734A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0C41-0E10-4B40-8FF5-4E5F30B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C810-4A9F-463A-A719-E46928E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B966-BB3D-43DD-BB61-BA5278D0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70EB-7274-46E3-92CD-8FA49E6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814B-CF15-4B6A-A341-E1832CE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B0BB-F0C9-4B87-906E-864D8D12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A90E-8688-437A-AEE8-EC1FD1C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3713-52D3-49D4-BD9E-DB4E763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8841-8AE4-495F-B06D-59D33DF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A46-F6CC-4412-83C5-4991EDC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CD9A-D640-4866-AF78-6D345AB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1E5C-0574-4A33-B203-3D5AB11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A431-F061-4B40-B9CC-09F0A3B5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F197-2879-4A48-B9C0-057D1E6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64A6-089C-4ED2-B205-1400D71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EA33-82EF-4924-B2AB-28F1BD6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EAC6-15B2-4CD7-8718-F3599DA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A7A4-EBE9-4D73-A608-ADEB219A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C11D-6F54-4A51-8CBA-473B5115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A576-7521-4C04-B288-7F51BC5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B93-0E6F-4D71-A48D-7BB710DD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FA5E-F987-4342-B8BC-13A1D44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2938-EDFA-4C71-9EC7-13A46D1B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A59B-AB4E-4DDC-AED9-9F09C0B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F854-E09D-4640-AB63-08C03460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2829-1986-44D4-901D-56EA7DD4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23683-DA43-40EA-92DB-D2A71E7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1535-4656-44E9-A04D-368D480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F21B-08ED-4571-8963-DCAF637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9415-F21C-4EE0-AE52-5095B35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F3D4-1C0B-45D0-87AF-DBD80D19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0B8-5D9B-488B-A18A-4E68EBA0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AAFD-CC26-4BC3-A0D7-765E1A3B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118D2-8CE8-459E-B0D7-67A2BB7E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6851-FA84-4517-B78D-17161F2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EDBD-143A-4FB5-92E3-0D2AE85B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1775-D0EE-4FB3-ACF6-0DD8A80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E8EB-92D8-4351-AAF2-A21A7538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406F-9D90-4779-991F-25B7618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94714-EA23-4C95-90D6-6682588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4256-1D94-4DE3-A6C2-F5A1121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CDDD-151D-480A-9620-B08EE28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036-412F-47A9-80B8-49AE1B9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BCD0-75C8-46CB-83DC-AD937848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EBBF-34F5-4FEB-B04F-EF644524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1982-0485-4C03-B68C-CC3C2D8C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60984-DAB7-422C-86B7-F80FD6FE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D729-2194-484C-B299-99A85382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2E2E-F9F7-48E6-A673-8583225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7B25-B27C-4EDB-B17C-E743765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A517-9BCB-4EA3-B90E-9C48E504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8F76A-93CB-4857-8CD7-EDD9B6D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4DAA-44D4-49DB-AF0F-BCD42AB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97A-D625-44B6-AC4C-DFB2DC0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0D7C-E8A2-4B91-909B-4A89C1F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332E5-0D33-41A2-B5C1-3D25A17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AF9B5-B453-4C19-8E76-67C8E29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8D71-5812-45B6-B28C-27FD034F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16EE-EFED-4B24-9A71-3F019FB2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B9872-27CA-4D91-9542-51F98B8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8A29-3CAD-4883-8806-0991C1AD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4E41-5707-40A5-BDCA-C1B8B198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1499-9568-4E05-8805-DBF7311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1021-76D4-414E-8180-C4E692DB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9DD-DF5C-4998-9FCC-B6A7AA4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882A-CC51-4299-A317-E9ECCEA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4164-DC30-4E24-A6C4-BA8ECF1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6A96-9FDE-4491-8686-4ADD4B0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AA3C-8BCE-4FDC-952B-97EF594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503B-F1FB-408D-8392-B7949703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82953-F1DC-40B9-87AF-0346D85C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2D18-8A29-4286-AA94-C01E6FE0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C66E2-0AEF-44FE-A5A6-25EF2243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53FB-C768-482A-85AE-202F2646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7D409-13A2-4602-837E-C9DE2035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865C-C2B7-4FD9-B51D-706B4676EE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E1AA-BA81-442F-9AFE-EF1158E10F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730-CF22-4832-892F-7967EE7A9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140-69CE-48A0-9E3D-C40C1E346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05C-D0D8-4914-B302-50F9E22DA7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4EF-675F-439C-BBE5-96C948DDE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F30-7DE7-46F0-B952-118A2A4A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3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F805-4645-4FA3-A89B-ADC0B2CCE5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8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9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75B-5E9B-4603-B7F9-E080C421EC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833D-E937-4D1C-9F22-E681A1E5F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490-F3EF-4402-9E3E-C216C4271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94E-BF54-4B01-8A47-35ADBC64E7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3640" y="1767960"/>
            <a:ext cx="81342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bbd71"/>
                </a:solidFill>
                <a:latin typeface="Arial"/>
              </a:rPr>
              <a:t>Налог на имущество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80071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логовая ставка налога на имущество с юридических лиц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логовая  ставка налога на имущество для индивидуальных предпринимателей определена в разме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0,5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1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) 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2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алоговой базой для физических лиц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оимость объектов налогообложения установленный на 4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стоимость объектов налогообложения установленный на 3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тоимость объектов налогообложения установленный на 2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тоимость объектов налогообложения установленный на 1.01. уполномоченным гос. орг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Р Е З Ю М 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80074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 на имущество выступает разновидностью прямых налогов. По своей сути его исчисление осуществляется без учета уровня дохода налогоплательщ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плательщиками налога на имущество являются юридические лица, индивидуальные предприниматели и физическ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идические лица исчисляют налог на имущество по ставке 2% к среднегодовой стоимости объектов обложения. Индивидуальные предприниматели исчисляют налог на имущество по ставке 1% к среднегодовой стоимости объектов налогообложения. Юридические лица применяющие специальный налоговый режим применяют ставку 1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лата налога производится в бюджет по месту нахождения объектов об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говый периодом для исчисления и уплаты налога на имущество является кварт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ъектом обложения для юридических лиц и ИП являются недвижимость, а для физических лиц объекты принадлежащие им на праве собств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Список использованной литератур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и налогообложение в Республике Казахстан» Нурхалиева Д.М., Омирбаев С.М., Астана 200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говый Кодекс Республики Казахстан, 2009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в Казахстане» Сейдахметова Ф.С., Алматы 2002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логи развитых зарубежных государств» Ильясов К.К., Алматы 1997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24000" y="475920"/>
            <a:ext cx="48974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b7e7ff"/>
                </a:solidFill>
                <a:latin typeface="Cooper Black"/>
              </a:rPr>
              <a:t>План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Общая характеристика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орядок исчисления и уплаты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Ставки налога на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.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Общая характеристика налога на</a:t>
            </a:r>
            <a:r>
              <a:rPr b="0" i="1" lang="en-US" sz="4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292929"/>
                </a:solidFill>
                <a:latin typeface="Times New Roman"/>
              </a:rPr>
              <a:t>имущ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лательщики налога на имуществ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Юрид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Физические 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3168720" cy="34131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Объекты налогообложения налога на имуществ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21632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юридических лиц и индивидуальных предпринимат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408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лые помещения, дачные строения, гаражи и иные строения, сооружения, находящиеся на территории Р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ъекты незавершенного строи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 являются объектами налогообложения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земля, являющаяся объектом обложения земельным налог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транспортные средства, являющиеся объектом обложения налогом на транспортны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основные средства, находящиеся на консервации по решению Правитель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государственные автомобильные дорог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основные средства, вновь вводимые в эксплуатацию в рамках инвестиционного проек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объекты незавершенного стро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2. Порядок исчисления  и уплаты налога  на имущество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логовая б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юридических лиц и индивидуа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нимателей – среднегод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лансовая стоимость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изических лиц –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ов налогообло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авливаемая по состоянию на 1январ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Исчисление налога на имущество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3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юридиче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лиц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индивидуаль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предпринимател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самостоятельно путем применения соответствующей ставки налога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32000" y="1628640"/>
            <a:ext cx="4016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ля физических лиц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ится налоговыми органами по месту нахождения объекта налогообложения независимо от места жительства налогоплательщика путем применения соответствующей налоговой ставки к налоговой б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41128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48360" y="1989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3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 Black"/>
              </a:rPr>
              <a:t>3. Ставки налога на имуществ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404640"/>
          <a:ext cx="8569080" cy="649476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об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Налоговая ста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. юрид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. юридические лица, применяющие специальный налоговый режим на основе упрощенной декларации, индивидуальные предприним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. некоммерческие организаци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организации, осуществляющие деятельность в соц. сфер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библиотечное обслуживани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 государственные предприятия, осуществляющие функции в области государственной аттест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сновные средства и нематериальные актив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реднегодовая остаточная стоимость объектов 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. физические л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объекты, принадлежащие им на праве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стоимость объектов обложения, устанавливаемая по состоянию на 1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в зависимости от стоимости объектов налогооб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 Black"/>
              </a:rPr>
              <a:t>Тестовые вопрос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бъектом обложения налогом на имущество не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орудование, требующее монтажа  на объектах незавершенн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основ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нематериальные акт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овой базой для исчисления налога на имущество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рогрессивные 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) среднегодов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усредненная остаточная 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нет верного от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12:04Z</dcterms:created>
  <dc:creator>Saule</dc:creator>
  <dc:description/>
  <dc:language>en-US</dc:language>
  <cp:lastModifiedBy>к</cp:lastModifiedBy>
  <dcterms:modified xsi:type="dcterms:W3CDTF">2010-06-18T03:15:14Z</dcterms:modified>
  <cp:revision>18</cp:revision>
  <dc:subject/>
  <dc:title>Налог на имущество</dc:title>
</cp:coreProperties>
</file>